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6D2-B6E5-4119-A8F8-C000BCBC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E5A-94CB-4040-A0F3-8A609A77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891-7B8A-4714-9021-E8811DFB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EB9E-A13D-4EBF-A12C-9CF6CC12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4214-47C3-42D7-B46A-F7C3839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B6EE-F14E-40DF-B267-B094D5D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25A0-ADCA-47C9-8C4C-2AA1D20C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BF86-E87E-4D3B-BD6B-ADA8DBEE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B54E-D064-4326-89C7-A03D04AC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D42E-452E-4BA2-84A4-9EE5CD48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AEA7-D45D-42E3-95BF-926B681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C11-7B22-42D3-BAEF-6CA80616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8D6-3D3E-4226-BCD5-8789ED13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2A2-E473-4BC1-9A38-C6770D33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8F34-F2DF-42A9-BC57-EF90731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FC37-7C19-476F-9896-E741ADAE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BD05-A1F4-461D-B518-7869C776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ABF-DA43-4DAF-A027-4088A0CE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85B-9EFB-4778-8706-81EB4D8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E0C-F30A-41F9-BE60-F39AC98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0D5-039D-4895-831B-D95B7735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015-2853-4ABA-A385-8B82012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D26-3197-41C6-AE41-010BCE1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7FB-EB5F-4BB4-92E9-ED813F90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22FE-0DD0-43B2-B447-F41AC438F29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017B-E31C-48F7-827C-5EDC67D1C8A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0880" y="304920"/>
            <a:ext cx="6934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nstantia"/>
              </a:rPr>
              <a:t>ARD Documentation Material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nstantia"/>
              <a:ea typeface="Constantia"/>
            </a:endParaRPr>
          </a:p>
        </p:txBody>
      </p:sp>
      <p:sp>
        <p:nvSpPr>
          <p:cNvPr id="193" name=""/>
          <p:cNvSpPr/>
          <p:nvPr/>
        </p:nvSpPr>
        <p:spPr>
          <a:xfrm>
            <a:off x="174240" y="1447920"/>
            <a:ext cx="7544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3360" y="259092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6400" y="3733920"/>
            <a:ext cx="61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M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8480" y="4403880"/>
            <a:ext cx="635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  TAKS-Alt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7680" y="5165640"/>
            <a:ext cx="7927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New Classroom Accommodation Sheet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s of January 2011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1295280"/>
            <a:ext cx="7620120" cy="5562720"/>
          </a:xfrm>
          <a:prstGeom prst="rect">
            <a:avLst/>
          </a:prstGeom>
          <a:solidFill>
            <a:srgbClr val="ffff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48600" y="228600"/>
            <a:ext cx="7247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28600" y="1371600"/>
          <a:ext cx="7391520" cy="55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7391520" cy="55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-48600" y="228600"/>
            <a:ext cx="7247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Present Levels of Functional &amp;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Academic Performance (Yellow Page)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80000" y="1447920"/>
            <a:ext cx="825948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Given to core teachers prior to 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</a:t>
            </a:r>
            <a:r>
              <a:rPr b="1" lang="en-US" sz="3000" spc="-1" strike="noStrike" u="sng">
                <a:solidFill>
                  <a:srgbClr val="2f1311"/>
                </a:solidFill>
                <a:uFillTx/>
                <a:latin typeface="Book Antiqua"/>
              </a:rPr>
              <a:t>Required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documentat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Critical that it is filled out prior to 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Send to Jenni before ARD or send with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tribe representative scheduled to attend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R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Cannot make informed decisions without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without teacher input.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205920" y="1447920"/>
            <a:ext cx="8469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Must be filled out for ALL SpEd students: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Accommodated and Modified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*Determines if students meet the eligibility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criteria for proposed accommodations i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the Accommodations Manual: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30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pelling List (p.23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Calculator (p. 24) – mathematics calculat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upplemental Aid (p.25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Graphic Organizer (p. 25) – memory retriev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75240" y="15228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-182160" y="1519200"/>
            <a:ext cx="8306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1.  Dr. Merenova confirms criteria by checking form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esting docum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2.  If Merenova signs off, the administrator mus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confirm criteria to see if accommodation mee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state/local criteria (use Accommodation Manual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3.  If administrator signs off, the teacher provid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imperical data (before and after) to show nee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4.  Teacher provides evidence (work samples, grades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etc.) that show regular classroom us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5.  Accommodation is documented in IEP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5240" y="152280"/>
            <a:ext cx="7610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exas Assessment Program Decision 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-369360" y="685800"/>
            <a:ext cx="8460720" cy="62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For EVERY student that is schedule to take TAKS-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1.  Currently receiving SpEd servi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Disability significantly affects academic progress in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   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grade-level curriculu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Not based solely on disability category or placem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Decided by the ARD Committee (not by administrator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2.  IEP reflects access to the grade-level TEKS, including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modifications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and accommodations, that the studen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uses during instruction and assessment.</a:t>
            </a:r>
            <a:r>
              <a:rPr b="1" lang="en-US" sz="22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(modifications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  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practices and procedures that change the nature of the task or skill)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3.  Data supports need for modified instruction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(state assessments, formal and informal assessments, norm-referenced tests,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        </a:t>
            </a:r>
            <a:r>
              <a:rPr b="1" lang="en-US" sz="1600" spc="-1" strike="noStrike">
                <a:solidFill>
                  <a:srgbClr val="2f1311"/>
                </a:solidFill>
                <a:latin typeface="Book Antiqua"/>
              </a:rPr>
              <a:t>and criterion referenced tests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4.  Meets some BUT NOT ALL of the TAKS-Alt crite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5.  ARD Committee decides that even with allowable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Accommodations, the student is unable to participate i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AKS or TAKS-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800" y="152280"/>
            <a:ext cx="616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M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-390600" y="609480"/>
            <a:ext cx="8614440" cy="64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For EVERY student that is schedule to take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TAKS-M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or </a:t>
            </a:r>
            <a:r>
              <a:rPr b="1" lang="en-US" sz="2000" spc="-1" strike="noStrike" u="sng">
                <a:solidFill>
                  <a:srgbClr val="2f1311"/>
                </a:solidFill>
                <a:uFillTx/>
                <a:latin typeface="Book Antiqua"/>
              </a:rPr>
              <a:t>TAKS-Alt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1.  Currently receiving SpEd servic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he most significant cognitive disabiliti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Unable to participate in other statewide assessments even with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substantial accommodations and/or modification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2.  Requires specialized academic help as well throughout the da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in areas such as:  (see TAKS-Alt Tool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3.  Requires direct, intensive, individualized instruction in 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variety of settings to acquire, maintain, and generalize skills to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(see TAKS-Alt Tool)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4.  Accesses the TEKS through pre-requisite skills that are linke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o grade-level curriculum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5.  Demonstrates knowledge and skills in class by methods othe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han paper &amp; pencil tasks (see TAKS-Alt Tool for examples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eacher must provide evidenc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6.  Demonstrates performance/academic skills by applying them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2f1311"/>
                </a:solidFill>
                <a:latin typeface="Book Antiqua"/>
              </a:rPr>
              <a:t>to environments where the needed skill may naturally occur…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9880" y="76320"/>
            <a:ext cx="635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TAKS-Alt Decision Making Tool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94040" y="968400"/>
            <a:ext cx="7728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se are new as of January 2011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ARDs completed prior to January 2011 – refer 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old classroom accommodation list provi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for you in your Accommodation Manu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ARDs completed as of January 2011 – refer 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new classroom accommodation list provid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o you in this train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*State Testing Accommodation codes remaine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  </a:t>
            </a: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he sa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46800" y="212760"/>
            <a:ext cx="798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*  New Classroom Accommodation Codes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95560" y="968400"/>
            <a:ext cx="706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Please ask Jenni Murphy, Elena Merenova, 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Jeanne Harding if you have any questions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Regarding this training or any other ARD or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Book Antiqua"/>
              </a:rPr>
              <a:t>Testing related question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212760"/>
            <a:ext cx="22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Questions?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4840" y="3200400"/>
            <a:ext cx="735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Come to all ARDs prepared with all of 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Book Antiqua"/>
              </a:rPr>
              <a:t>the proper documentation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1:03:00Z</dcterms:created>
  <dc:creator>bisd</dc:creator>
  <dc:description/>
  <dc:language>en-US</dc:language>
  <cp:lastModifiedBy>bisd</cp:lastModifiedBy>
  <dcterms:modified xsi:type="dcterms:W3CDTF">2011-01-26T02:19:57Z</dcterms:modified>
  <cp:revision>4</cp:revision>
  <dc:subject/>
  <dc:title>Slide 1</dc:title>
</cp:coreProperties>
</file>